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gif" ContentType="image/gif"/>
  <Override PartName="/ppt/media/image3.gif" ContentType="image/gif"/>
  <Override PartName="/ppt/media/image4.gif" ContentType="image/gif"/>
  <Override PartName="/ppt/media/image5.gif" ContentType="image/gif"/>
  <Override PartName="/ppt/media/image6.gif" ContentType="image/gif"/>
  <Override PartName="/ppt/media/image7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3CCB0-C4F0-408D-904A-F1004542F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B045E-CC20-4E6C-9E2C-619892D5C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A31FF-F0AF-4369-85EA-E0A4189DB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1E293-B3A5-4E6D-96D5-961E601A1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A2371-2087-45B6-9670-208898807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CDD3F-6039-4F12-826C-2CE82E864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00E6A-35F9-4B25-93E8-1CFE7C3A7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E5E6F-DF30-4634-901A-3F13D2478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4F51A-6E8D-46A1-8598-77753FAD6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B9742-2416-475E-8ADA-FF89795CF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C86D6-1972-495E-94CF-57CCEE0AC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91E1B-F46B-4491-9597-0D2928B1E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5a965"/>
            </a:gs>
            <a:gs pos="50000">
              <a:srgbClr val="99ff99"/>
            </a:gs>
            <a:gs pos="100000">
              <a:srgbClr val="65a9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81E92-C6BF-494E-A6DA-308E34F9CC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5a965"/>
            </a:gs>
            <a:gs pos="50000">
              <a:srgbClr val="99ff99"/>
            </a:gs>
            <a:gs pos="100000">
              <a:srgbClr val="65a9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8218440" cy="24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a080d"/>
                </a:solidFill>
                <a:latin typeface="Arial"/>
              </a:rPr>
              <a:t>Здоровьесберегающие технологии</a:t>
            </a:r>
            <a:br>
              <a:rPr sz="3200"/>
            </a:br>
            <a:r>
              <a:rPr b="1" lang="ru-RU" sz="3200" spc="-1" strike="noStrike">
                <a:solidFill>
                  <a:srgbClr val="da080d"/>
                </a:solidFill>
                <a:latin typeface="Arial"/>
              </a:rPr>
              <a:t> в начальной школе</a:t>
            </a:r>
            <a:br>
              <a:rPr sz="3200"/>
            </a:br>
            <a:r>
              <a:rPr b="1" lang="ru-RU" sz="3200" spc="-1" strike="noStrike">
                <a:solidFill>
                  <a:srgbClr val="da080d"/>
                </a:solidFill>
                <a:latin typeface="Arial"/>
              </a:rPr>
              <a:t>Физминутка </a:t>
            </a:r>
            <a:br>
              <a:rPr sz="3200"/>
            </a:br>
            <a:r>
              <a:rPr b="1" lang="ru-RU" sz="3200" spc="-1" strike="noStrike">
                <a:solidFill>
                  <a:srgbClr val="da080d"/>
                </a:solidFill>
                <a:latin typeface="Arial"/>
              </a:rPr>
              <a:t> (коррекция зрения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539640" y="595008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89240" y="6194520"/>
            <a:ext cx="2946600" cy="36036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Мастерская Масько Л.Г.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5a965"/>
            </a:gs>
            <a:gs pos="50000">
              <a:srgbClr val="99ff99"/>
            </a:gs>
            <a:gs pos="100000">
              <a:srgbClr val="65a9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" name=""/>
          <p:cNvGrpSpPr/>
          <p:nvPr/>
        </p:nvGrpSpPr>
        <p:grpSpPr>
          <a:xfrm>
            <a:off x="1866960" y="963720"/>
            <a:ext cx="4967280" cy="4966920"/>
            <a:chOff x="1866960" y="963720"/>
            <a:chExt cx="4967280" cy="4966920"/>
          </a:xfrm>
        </p:grpSpPr>
        <p:sp>
          <p:nvSpPr>
            <p:cNvPr id="104" name=""/>
            <p:cNvSpPr/>
            <p:nvPr/>
          </p:nvSpPr>
          <p:spPr>
            <a:xfrm rot="16200000">
              <a:off x="5142960" y="2295720"/>
              <a:ext cx="1007640" cy="23749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66ff33"/>
                </a:gs>
              </a:gsLst>
              <a:lin ang="10800000"/>
            </a:gradFill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16200000">
              <a:off x="2550600" y="2295720"/>
              <a:ext cx="1007640" cy="2374920"/>
            </a:xfrm>
            <a:prstGeom prst="ellipse">
              <a:avLst/>
            </a:prstGeom>
            <a:gradFill rotWithShape="0">
              <a:gsLst>
                <a:gs pos="0">
                  <a:srgbClr val="66ff33"/>
                </a:gs>
                <a:gs pos="100000">
                  <a:srgbClr val="fefefe"/>
                </a:gs>
              </a:gsLst>
              <a:lin ang="10800000"/>
            </a:gradFill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882960" y="3556080"/>
              <a:ext cx="1008000" cy="237456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4bfb53"/>
                </a:gs>
              </a:gsLst>
              <a:lin ang="5400000"/>
            </a:gradFill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882960" y="963720"/>
              <a:ext cx="1008000" cy="2374560"/>
            </a:xfrm>
            <a:prstGeom prst="ellipse">
              <a:avLst/>
            </a:prstGeom>
            <a:gradFill rotWithShape="0">
              <a:gsLst>
                <a:gs pos="0">
                  <a:srgbClr val="4bfb53"/>
                </a:gs>
                <a:gs pos="100000">
                  <a:srgbClr val="ffffff"/>
                </a:gs>
              </a:gsLst>
              <a:lin ang="5400000"/>
            </a:gradFill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954600" y="3051000"/>
              <a:ext cx="865080" cy="865080"/>
            </a:xfrm>
            <a:prstGeom prst="ellipse">
              <a:avLst/>
            </a:prstGeom>
            <a:solidFill>
              <a:srgbClr val="ffff00"/>
            </a:solidFill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4282920" y="836640"/>
            <a:ext cx="287640" cy="287280"/>
          </a:xfrm>
          <a:prstGeom prst="ellipse">
            <a:avLst/>
          </a:prstGeom>
          <a:solidFill>
            <a:srgbClr val="ffff00"/>
          </a:solidFill>
          <a:ln cap="rnd" w="57240">
            <a:solidFill>
              <a:srgbClr val="ccff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3"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36" dur="5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66667E-006 5.18519E-006 C 0.00416 -0.00092 0.01232 -0.00208 0.01666 0.00186 C 0.021 0.00579 0.02135 0.01297 0.02638 0.02408 C 0.03142 0.03519 0.04235 0.05001 0.04722 0.06853 C 0.05208 0.08704 0.05416 0.11089 0.05555 0.13519 C 0.05694 0.1595 0.05711 0.19144 0.05555 0.21482 C 0.05399 0.23797 0.05017 0.25834 0.04583 0.27593 C 0.04149 0.29353 0.0276 0.31413 0.02916 0.32038 C 0.03072 0.3264 0.04322 0.31644 0.05555 0.31297 C 0.06788 0.30927 0.08541 0.30255 0.10277 0.29978 C 0.12013 0.29746 0.14235 0.29723 0.15972 0.29792 C 0.17708 0.29908 0.19322 0.30093 0.20694 0.30533 C 0.22065 0.31019 0.23107 0.31853 0.24166 0.32593 C 0.25225 0.33334 0.26683 0.33982 0.27083 0.34978 C 0.27482 0.35973 0.271 0.37408 0.26527 0.38519 C 0.25954 0.3963 0.24722 0.40857 0.2361 0.41667 C 0.22499 0.42478 0.21406 0.42871 0.1986 0.43334 C 0.18315 0.43797 0.16024 0.44422 0.14305 0.44445 C 0.12586 0.44468 0.11128 0.43866 0.09583 0.43519 C 0.08038 0.43172 0.05954 0.42686 0.04999 0.42408 C 0.04044 0.4213 0.03906 0.41459 0.03888 0.41853 C 0.03871 0.42246 0.04531 0.43218 0.0486 0.44816 C 0.0519 0.46413 0.05711 0.49561 0.05833 0.51482 C 0.05954 0.53404 0.05572 0.54723 0.05555 0.56274 C 0.05538 0.57825 0.05885 0.58913 0.05694 0.60741 C 0.05503 0.62547 0.04999 0.65487 0.04444 0.672 C 0.03888 0.68959 0.02933 0.70232 0.0236 0.71112 C 0.01788 0.71968 0.01614 0.72292 0.00972 0.72408 C 0.00329 0.72501 -0.00747 0.72501 -0.01528 0.71829 C -0.0231 0.71181 -0.03126 0.70024 -0.03751 0.68311 C -0.04376 0.66644 -0.04983 0.63612 -0.05278 0.61644 C -0.05574 0.597 -0.05539 0.58195 -0.05556 0.56482 C -0.05574 0.54723 -0.05608 0.53033 -0.05417 0.51274 C -0.05226 0.49561 -0.04844 0.47663 -0.04445 0.46112 C -0.04046 0.44561 -0.03247 0.42894 -0.03056 0.42038 C -0.02865 0.41181 -0.03108 0.4095 -0.03334 0.40927 C -0.0356 0.40904 -0.03403 0.41297 -0.04445 0.41853 C -0.05487 0.42408 -0.07726 0.43866 -0.09584 0.4426 C -0.11442 0.44654 -0.13942 0.44353 -0.15556 0.4426 C -0.17171 0.44167 -0.17969 0.44052 -0.19306 0.43704 C -0.20643 0.43357 -0.22553 0.42802 -0.23612 0.42223 C -0.24671 0.41644 -0.25087 0.40927 -0.25695 0.40186 C -0.26303 0.39445 -0.27101 0.3882 -0.27223 0.37779 C -0.27344 0.36737 -0.27153 0.34931 -0.2639 0.33866 C -0.25626 0.32825 -0.2389 0.32084 -0.2264 0.31482 C -0.2139 0.30857 -0.20018 0.30441 -0.1889 0.30163 C -0.17761 0.29931 -0.17084 0.30001 -0.15834 0.29978 C -0.14584 0.29954 -0.12553 0.29954 -0.1139 0.29978 C -0.10226 0.30001 -0.09844 0.29908 -0.0889 0.30163 C -0.07935 0.30464 -0.06615 0.31204 -0.05695 0.31667 C -0.04775 0.32107 -0.03664 0.33218 -0.03334 0.32964 C -0.03004 0.32686 -0.03421 0.31899 -0.03751 0.30163 C -0.04081 0.28427 -0.05001 0.24538 -0.05278 0.22593 C -0.05556 0.20626 -0.05417 0.19885 -0.05417 0.18334 C -0.05417 0.16783 -0.05365 0.14885 -0.05278 0.13334 C -0.05192 0.11783 -0.05087 0.10348 -0.04862 0.09075 C -0.04636 0.07802 -0.04237 0.06691 -0.0389 0.05741 C -0.03542 0.04792 -0.03178 0.04052 -0.02778 0.03334 C -0.02379 0.02616 -0.01858 0.01922 -0.01528 0.01482 C -0.01199 0.01042 -0.01112 0.00996 -0.00834 0.00741 C -0.00556 0.00487 -0.00417 0.00093 -6.66667E-006 5.18519E-006 Z">
                                      <p:cBhvr>
                                        <p:cTn id="138" dur="5000" fill="hold"/>
                                        <p:tgtEl>
                                          <p:spTgt spid="1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0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5a965"/>
            </a:gs>
            <a:gs pos="50000">
              <a:srgbClr val="99ff99"/>
            </a:gs>
            <a:gs pos="100000">
              <a:srgbClr val="65a9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Ols" descr=""/>
          <p:cNvPicPr/>
          <p:nvPr/>
        </p:nvPicPr>
        <p:blipFill>
          <a:blip r:embed="rId1"/>
          <a:stretch/>
        </p:blipFill>
        <p:spPr>
          <a:xfrm rot="20139000">
            <a:off x="1056960" y="687240"/>
            <a:ext cx="799920" cy="79236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3708360" y="3573360"/>
            <a:ext cx="2160720" cy="2089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withEffect" fill="hold" presetClass="path" presetID="1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 -0.08395 C 0.54931 -0.08395 0.71216 0.09945 0.71216 0.32493 C 0.71216 0.55042 0.54931 0.73427 0.35 0.73427 C 0.15018 0.73427 -0.01215 0.55042 -0.01215 0.32493 C -0.01215 0.09945 0.15018 -0.08395 0.35 -0.08395 Z">
                                      <p:cBhvr>
                                        <p:cTn id="146" dur="5000" fill="hold"/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10000"/>
                            </p:stCondLst>
                            <p:childTnLst>
                              <p:par>
                                <p:cTn id="14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3.21924E-006 L 0.09444 0.57702 E">
                                      <p:cBhvr>
                                        <p:cTn id="149" dur="2000" fill="hold"/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12000"/>
                            </p:stCondLst>
                            <p:childTnLst>
                              <p:par>
                                <p:cTn id="15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5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17000"/>
                            </p:stCondLst>
                            <p:childTnLst>
                              <p:par>
                                <p:cTn id="15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67136 -0.0148 L 0.42726 0.34182 E">
                                      <p:cBhvr>
                                        <p:cTn id="158" dur="2000" fill="hold"/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5a965"/>
            </a:gs>
            <a:gs pos="50000">
              <a:srgbClr val="99ff99"/>
            </a:gs>
            <a:gs pos="100000">
              <a:srgbClr val="65a9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179280" y="333000"/>
            <a:ext cx="878544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2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900" spc="-1" strike="noStrike">
                <a:solidFill>
                  <a:srgbClr val="1d5323"/>
                </a:solidFill>
                <a:latin typeface="Arial"/>
              </a:rPr>
              <a:t>Будьте здоровы!</a:t>
            </a: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3670200" y="4390920"/>
            <a:ext cx="1728720" cy="229248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 rot="17554200">
            <a:off x="2987640" y="4581000"/>
            <a:ext cx="1224000" cy="12240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243000" y="243000"/>
            <a:ext cx="847728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1d5323"/>
                </a:solidFill>
                <a:latin typeface="Arial"/>
              </a:rPr>
              <a:t>Ежедневно делайте зарядку для глаз от 2 до 5 минут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3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3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3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3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3000"/>
                            </p:stCondLst>
                            <p:childTnLst>
                              <p:par>
                                <p:cTn id="16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3000"/>
                            </p:stCondLst>
                            <p:childTnLst>
                              <p:par>
                                <p:cTn id="17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5a965"/>
            </a:gs>
            <a:gs pos="50000">
              <a:srgbClr val="99ff99"/>
            </a:gs>
            <a:gs pos="100000">
              <a:srgbClr val="65a9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24000" y="404640"/>
            <a:ext cx="1150920" cy="1081440"/>
          </a:xfrm>
          <a:prstGeom prst="ellipse">
            <a:avLst/>
          </a:prstGeom>
          <a:gradFill rotWithShape="0">
            <a:gsLst>
              <a:gs pos="0">
                <a:srgbClr val="eb1d5d"/>
              </a:gs>
              <a:gs pos="100000">
                <a:srgbClr val="6c0d2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308720" y="5229360"/>
            <a:ext cx="1008360" cy="100800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100000">
                <a:srgbClr val="465e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476360" y="1413000"/>
            <a:ext cx="2016000" cy="21603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7020000" y="333360"/>
            <a:ext cx="1584360" cy="12240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ad298a"/>
              </a:gs>
              <a:gs pos="100000">
                <a:srgbClr val="4f123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24000" y="4797360"/>
            <a:ext cx="1438200" cy="1584360"/>
          </a:xfrm>
          <a:prstGeom prst="diamond">
            <a:avLst/>
          </a:prstGeom>
          <a:gradFill rotWithShape="0">
            <a:gsLst>
              <a:gs pos="0">
                <a:srgbClr val="333399"/>
              </a:gs>
              <a:gs pos="100000">
                <a:srgbClr val="1717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">
    <p:comb dir="horz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4.07031E-006 L 0.74827 -0.00532 E">
                                      <p:cBhvr>
                                        <p:cTn id="18" dur="20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781 -0.00532 L 0.00018 0.67137 E">
                                      <p:cBhvr>
                                        <p:cTn id="22" dur="20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7 -0.02613 L -0.7165 -0.03654 E">
                                      <p:cBhvr>
                                        <p:cTn id="26" dur="20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778E-017 3.00648E-006 L -0.00799 -0.65565 E">
                                      <p:cBhvr>
                                        <p:cTn id="30" dur="2000" fill="hold"/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" dur="10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5a965"/>
            </a:gs>
            <a:gs pos="50000">
              <a:srgbClr val="99ff99"/>
            </a:gs>
            <a:gs pos="100000">
              <a:srgbClr val="65a9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82760" y="2766960"/>
            <a:ext cx="1008000" cy="936720"/>
          </a:xfrm>
          <a:prstGeom prst="ellipse">
            <a:avLst/>
          </a:prstGeom>
          <a:gradFill rotWithShape="0">
            <a:gsLst>
              <a:gs pos="0">
                <a:srgbClr val="333399"/>
              </a:gs>
              <a:gs pos="100000">
                <a:srgbClr val="17174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">
    <p:comb dir="horz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path" presetID="22" repeatCount="5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961 0.01896 C -0.01961 -0.12902 0.07639 -0.25156 0.19271 -0.25156 C 0.33004 -0.25156 0.37969 -0.11561 0.40018 -0.03445 L 0.42171 0.07283 C 0.44306 0.15376 0.49619 0.28763 0.65087 0.28763 C 0.75 0.28763 0.86198 0.16671 0.86198 0.01896 C 0.86198 -0.12902 0.75 -0.25156 0.65087 -0.25156 C 0.49619 -0.25156 0.44306 -0.11561 0.42171 -0.03445 L 0.40018 0.07283 C 0.37969 0.15376 0.33004 0.28763 0.19271 0.28763 C 0.07639 0.28763 -0.01961 0.16671 -0.01961 0.01896 Z">
                                      <p:cBhvr>
                                        <p:cTn id="47" dur="3000" fill="hold"/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5a965"/>
            </a:gs>
            <a:gs pos="50000">
              <a:srgbClr val="99ff99"/>
            </a:gs>
            <a:gs pos="100000">
              <a:srgbClr val="65a9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23720" y="2948040"/>
            <a:ext cx="1008360" cy="936720"/>
          </a:xfrm>
          <a:prstGeom prst="ellipse">
            <a:avLst/>
          </a:prstGeom>
          <a:solidFill>
            <a:srgbClr val="e03c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708360" y="4292640"/>
            <a:ext cx="1873440" cy="2376360"/>
          </a:xfrm>
          <a:prstGeom prst="rect">
            <a:avLst/>
          </a:prstGeom>
          <a:ln w="0">
            <a:noFill/>
          </a:ln>
        </p:spPr>
      </p:pic>
    </p:spTree>
  </p:cSld>
  <p:transition advTm="1000">
    <p:wheel spokes="3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path" presetID="22" repeatCount="5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725 0.00833 C -0.0276 -0.1452 0.06841 -0.2726 0.18473 -0.2726 C 0.32205 -0.2726 0.37171 -0.13133 0.39219 -0.04717 L 0.41372 0.06428 C 0.43507 0.14821 0.4882 0.28786 0.64289 0.28786 C 0.74202 0.28786 0.854 0.16208 0.854 0.00833 C 0.85365 -0.1452 0.74202 -0.2726 0.64289 -0.2726 C 0.4882 -0.2726 0.43507 -0.13133 0.41372 -0.04717 L 0.39219 0.06428 C 0.37171 0.14844 0.32205 0.28786 0.18473 0.28786 C 0.06841 0.28786 -0.0276 0.16208 -0.02725 0.00833 Z">
                                      <p:cBhvr>
                                        <p:cTn id="57" dur="300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5a965"/>
            </a:gs>
            <a:gs pos="50000">
              <a:srgbClr val="99ff99"/>
            </a:gs>
            <a:gs pos="100000">
              <a:srgbClr val="65a9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ubPieSlice"/>
          <p:cNvSpPr/>
          <p:nvPr/>
        </p:nvSpPr>
        <p:spPr>
          <a:xfrm>
            <a:off x="1547640" y="404640"/>
            <a:ext cx="6912000" cy="6193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10727"/>
                </a:moveTo>
                <a:arcTo wR="10800" hR="10800" stAng="-23329" swAng="-21576671"/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00cc00"/>
              </a:gs>
              <a:gs pos="100000">
                <a:srgbClr val="005e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32480" y="3247920"/>
            <a:ext cx="720720" cy="647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685880" y="3429000"/>
            <a:ext cx="6734160" cy="93600"/>
          </a:xfrm>
          <a:prstGeom prst="rect">
            <a:avLst/>
          </a:prstGeom>
          <a:ln w="0">
            <a:noFill/>
          </a:ln>
        </p:spPr>
      </p:pic>
    </p:spTree>
  </p:cSld>
  <p:transition advTm="1000">
    <p:wheel spokes="3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1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path" presetID="55" repeatCount="5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6267 -0.03191 C 0.346 -0.28931 0.17222 -0.48335 -0.02691 -0.45953 C -0.21771 -0.43871 -0.37639 -0.23473 -0.36042 0.01688 C -0.34809 0.25 -0.20104 0.43872 -0.02257 0.41952 C 0.14097 0.40079 0.27968 0.22711 0.2684 0.00971 C 0.25729 -0.18802 0.13298 -0.3506 -0.01927 -0.33603 C -0.15868 -0.31984 -0.275 -0.17599 -0.26424 0.00717 C -0.25608 0.17137 -0.15538 0.30921 -0.0316 0.29232 C 0.08246 0.28099 0.17934 0.17045 0.17274 0.02105 C 0.16389 -0.10985 0.08628 -0.22317 -0.01198 -0.21022 C -0.09757 -0.20282 -0.17587 -0.11702 -0.16962 -0.003 C -0.16459 0.09228 -0.10973 0.17507 -0.03785 0.16929 C 0.02135 0.16397 0.07916 0.10939 0.07343 0.0333 C 0.07205 -0.02937 0.03854 -0.09066 -0.00417 -0.0895 C -0.03941 -0.08256 -0.0724 -0.06036 -0.07448 -0.01572 C -0.07379 0.01342 -0.06372 0.0377 -0.04601 0.0444 C -0.03525 0.04764 -0.03125 0.04464 -0.02223 0.04117 E">
                                      <p:cBhvr>
                                        <p:cTn id="75" dur="500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5a965"/>
            </a:gs>
            <a:gs pos="50000">
              <a:srgbClr val="99ff99"/>
            </a:gs>
            <a:gs pos="100000">
              <a:srgbClr val="65a9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059280" y="4221000"/>
            <a:ext cx="2520720" cy="2160720"/>
          </a:xfrm>
          <a:prstGeom prst="ellipse">
            <a:avLst/>
          </a:prstGeom>
          <a:gradFill rotWithShape="0">
            <a:gsLst>
              <a:gs pos="0">
                <a:srgbClr val="00cc00"/>
              </a:gs>
              <a:gs pos="100000">
                <a:srgbClr val="005e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">
    <p:wheel spokes="3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82 0.08419 L -0.00382 -0.61609 E">
                                      <p:cBhvr>
                                        <p:cTn id="81" dur="2000" fill="hold"/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2000"/>
                            </p:stCondLst>
                            <p:childTnLst>
                              <p:par>
                                <p:cTn id="83" nodeType="afterEffect" fill="hold" presetClass="path" presetID="42" repeatCount="5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82 -0.60823 L -0.00382 0.08418 E">
                                      <p:cBhvr>
                                        <p:cTn id="84" dur="1000" fill="hold"/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5a965"/>
            </a:gs>
            <a:gs pos="50000">
              <a:srgbClr val="99ff99"/>
            </a:gs>
            <a:gs pos="100000">
              <a:srgbClr val="65a9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95280" y="2492280"/>
            <a:ext cx="2376360" cy="2089080"/>
          </a:xfrm>
          <a:prstGeom prst="ellipse">
            <a:avLst/>
          </a:prstGeom>
          <a:gradFill rotWithShape="0">
            <a:gsLst>
              <a:gs pos="0">
                <a:srgbClr val="00cc00"/>
              </a:gs>
              <a:gs pos="100000">
                <a:srgbClr val="005e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">
    <p:wheel spokes="3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-3.03423E-006 L 0.66944 0.00532 E">
                                      <p:cBhvr>
                                        <p:cTn id="90" dur="20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2000"/>
                            </p:stCondLst>
                            <p:childTnLst>
                              <p:par>
                                <p:cTn id="92" nodeType="afterEffect" fill="hold" presetClass="pat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66945 0.00532 L -3.33333E-006 -0.00509 E">
                                      <p:cBhvr>
                                        <p:cTn id="93" dur="10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5a965"/>
            </a:gs>
            <a:gs pos="50000">
              <a:srgbClr val="99ff99"/>
            </a:gs>
            <a:gs pos="100000">
              <a:srgbClr val="65a9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780000" y="2708280"/>
            <a:ext cx="1655640" cy="1512720"/>
          </a:xfrm>
          <a:prstGeom prst="ellipse">
            <a:avLst/>
          </a:prstGeom>
          <a:gradFill rotWithShape="0">
            <a:gsLst>
              <a:gs pos="0">
                <a:srgbClr val="e03c82"/>
              </a:gs>
              <a:gs pos="100000">
                <a:srgbClr val="671b3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">
    <p:wheel spokes="3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mph" presetID="35" repeatCount="10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5a965"/>
            </a:gs>
            <a:gs pos="50000">
              <a:srgbClr val="99ff99"/>
            </a:gs>
            <a:gs pos="100000">
              <a:srgbClr val="65a9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518240" y="5533920"/>
            <a:ext cx="1203480" cy="1022400"/>
          </a:xfrm>
          <a:prstGeom prst="ellipse">
            <a:avLst/>
          </a:prstGeom>
          <a:solidFill>
            <a:srgbClr val="e03c82">
              <a:alpha val="7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297000" y="6264000"/>
            <a:ext cx="8596080" cy="9036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97000" y="5543640"/>
            <a:ext cx="8550000" cy="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97000" y="4824360"/>
            <a:ext cx="8550000" cy="4464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50920" y="4103640"/>
            <a:ext cx="8642160" cy="4608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97000" y="3384720"/>
            <a:ext cx="8596080" cy="4428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97000" y="2664000"/>
            <a:ext cx="8596080" cy="4428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250920" y="1942920"/>
            <a:ext cx="8686800" cy="4572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297000" y="1223640"/>
            <a:ext cx="8596080" cy="4428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341280" y="549000"/>
            <a:ext cx="8505720" cy="4428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5092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905040" y="0"/>
            <a:ext cx="88560" cy="68580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685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40660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12912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84984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200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234040" y="0"/>
            <a:ext cx="60120" cy="68580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14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73740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45812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120160" y="0"/>
            <a:ext cx="118800" cy="68580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890100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336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03120" y="5894280"/>
            <a:ext cx="8597880" cy="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32552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09776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04624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76876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429000" y="0"/>
            <a:ext cx="60480" cy="68580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15116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871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43000" y="5232240"/>
            <a:ext cx="8597880" cy="6048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43000" y="4451400"/>
            <a:ext cx="8658000" cy="6012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50920" y="3716280"/>
            <a:ext cx="8658000" cy="6048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43000" y="3008160"/>
            <a:ext cx="8658000" cy="6048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250920" y="2276280"/>
            <a:ext cx="8658000" cy="6012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250920" y="1557360"/>
            <a:ext cx="8742240" cy="7128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03120" y="842760"/>
            <a:ext cx="8597880" cy="6012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243000" y="242640"/>
            <a:ext cx="8658000" cy="5868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65452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375240" y="0"/>
            <a:ext cx="60480" cy="68580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58000" y="0"/>
            <a:ext cx="60480" cy="68580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540640" y="0"/>
            <a:ext cx="60480" cy="68580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">
    <p:wheel spokes="3"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2.10916E-006 L -0.78264 -0.784 E">
                                      <p:cBhvr>
                                        <p:cTn id="105" dur="2000" fill="hold"/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78264 -0.784 L -0.78264 0.0481 E">
                                      <p:cBhvr>
                                        <p:cTn id="109" dur="2000" fill="hold"/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78264 0.0481 L 0.06563 -0.80157 E">
                                      <p:cBhvr>
                                        <p:cTn id="113" dur="2000" fill="hold"/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281 -0.80157 L 0.03281 -0.01318 E">
                                      <p:cBhvr>
                                        <p:cTn id="117" dur="2000" fill="hold"/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78264 0.0481 L -0.0592 0.03931 E">
                                      <p:cBhvr>
                                        <p:cTn id="121" dur="2000" fill="hold"/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78264 0.0481 L 0.03281 -0.80157 E">
                                      <p:cBhvr>
                                        <p:cTn id="125" dur="2000" fill="hold"/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6563 -0.80157 L -0.77604 -0.81036 E">
                                      <p:cBhvr>
                                        <p:cTn id="129" dur="2000" fill="hold"/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1T13:26:02Z</dcterms:created>
  <dc:creator>Масько Л.Г.</dc:creator>
  <dc:description/>
  <dc:language>en-US</dc:language>
  <cp:lastModifiedBy>Samsung</cp:lastModifiedBy>
  <dcterms:modified xsi:type="dcterms:W3CDTF">2008-02-07T05:55:05Z</dcterms:modified>
  <cp:revision>23</cp:revision>
  <dc:subject/>
  <dc:title>Слайд 1</dc:title>
</cp:coreProperties>
</file>